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BB9-706F-466F-84F1-E979964C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3B1-B942-434B-ACDD-E375B548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D8A-0F19-4D93-B250-43632C3B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8E4-E05F-4837-A539-242E6729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491-8C4C-47A2-A2A1-D9E9A077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AAC-432D-486B-AC23-F211709D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72C-EC9C-4E0E-B3D2-4B3BA04F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F77-0724-47BB-BB10-AC11774A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881-3418-4F77-80EC-32C1BB09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06B-46F6-4B3D-9E8D-2CF484D4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935-A44F-4051-892E-1F91E4E7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60B-5C02-46C1-99C4-3716AFA5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DA83-C5EF-4452-8FF2-DC0335BCD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y Alyssa Hartstein and Emily Dzu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Etre Verbs that End in -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Present           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Re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Sor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Par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Mou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Re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Sor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Par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M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tre Verbs that End in -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resent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ou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n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our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t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nt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mb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ri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Etre Verbs that End in -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Present</a:t>
            </a: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aî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Descen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Desc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Avoir Verb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Present</a:t>
            </a: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B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Per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Met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Voul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Pou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A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Vou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37:51Z</dcterms:created>
  <dc:creator>Scotch Plains BOE</dc:creator>
  <dc:description/>
  <dc:language>en-US</dc:language>
  <cp:lastModifiedBy>Scotch Plains BOE</cp:lastModifiedBy>
  <dcterms:modified xsi:type="dcterms:W3CDTF">2010-01-15T19:18:02Z</dcterms:modified>
  <cp:revision>1</cp:revision>
  <dc:subject/>
  <dc:title>Passé Composé</dc:title>
</cp:coreProperties>
</file>